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gif" ContentType="image/gif"/>
  <Override PartName="/ppt/media/image16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5D819-99AD-40D8-9D70-B49C3C4A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C4EDC-B6FE-405D-91F3-194F6815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CF0D1-98D4-4B8C-9E5F-5D33D2A9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8D29D-3F29-45CC-A2C9-2416EF5F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3300-FDBB-46CB-9422-501E3DD1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9873-BD33-446B-A007-58F872FB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66F0-45DA-47ED-BC83-451957F5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8B0C-6CAD-4745-931B-3912AC3B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1F36-0B57-41CD-A726-D95A6DAB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09A1-0FEF-4172-948A-CB71AC35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0F66-AEAD-4129-BD5E-45501233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1171A-4175-4143-86A1-45A7ACCA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E41A-3480-461C-8B0D-7008658B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2A9C-C559-4ADC-B608-AC63187E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DF53-73E6-48CC-AA54-24689443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7566-2479-4327-836F-F4BA5E0C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6CD4-5CD1-48EF-B021-3EE08161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825C1-8C57-423A-A28D-2C254C6D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DE035-9B6A-460F-8AA1-A9A6A532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D4F25-69E3-4BFC-A23B-51D757DB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8306C-2CBC-4A51-B5B1-9E3CEB87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E2E6B-55CE-41C9-9108-922C8032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3E17D-C35E-4CA8-9E96-1A17DFD9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8AE80-6211-4A3D-9E2C-81FA7B02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48BB-E6B2-475E-9DE2-501823FE41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CAE8-705D-4605-A792-D67F3FB440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сихологическая уравновешенность. Стресс. Влияние стресса на человека.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Ахрарова Владислав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7 класс 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Эмоциональные симптомы стр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приз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пыльчивость, раздражи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возможность расслаб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жиданные приступы па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перегруж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одино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прессия, постоянные перепады настро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оянное чувство вины, нервозность, трев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аждебность, гн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лонность к суици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адекватная реакция на мелкие неприя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93080" y="1916280"/>
            <a:ext cx="1230120" cy="1458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236000" y="3789360"/>
            <a:ext cx="12189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Физические признаки стресс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радание и бо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крипение зубами, сжимание челю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ь в животе, изж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ловокружение, тошн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ащенное сердцебиение, боль в гру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трудненное дых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ик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тые просту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рожание рук, ног, г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ь в спине, шее, мышечные спаз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вон в уш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тлив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ухость во р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пивница, зуд, сып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ллергия без видимых прич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абость, вялость, устал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20955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Поведенческие признаки стр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доедание или, напротив, перее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нормально короткий или долгий с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изоляция от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небрежение своими обязан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рение, алкоголь или нарко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пульсивные покупки, азартны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пульсивное или навязчивое пове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рмочущая, быстрая 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озрительность или чрезмерная защ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ности в об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12000" y="981000"/>
            <a:ext cx="27255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психоп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йкость и поверхностное обаяни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Специалисты считают, что психопат скрывается под симпатичной и приятной маской здравомысл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ндиозное восприятие себ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сихопаты часто считают, что они умнее или могущественнее, чем они есть на самом де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тоянная потребность в стимуляци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Тишина и спокойствие не являются чертами психопатов. Им нужны постоянные развлечения и актив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сутствие патологической лж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сихопат врет по любому поводу, вводя в заблуждение незначительной ложью и огромными выдуманными истор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психоп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личные уровни манипуляци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Всем психопатам свойственна хитрость, и они способны заставить людей делать вещи, которые те обычно не делают. Психопаты могут вызвать чувство вины, использовать силу и другие способы для манипуля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сутствие чувства вины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Отсутствие вины или угрызений совести является признаком психопат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ффект или эмоциональная реакци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сихопаты демонстрируют слабую эмоциональную реакцию на смерть, травмы, ранения или другие события, которые должны вызывать более глубокий отклик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язнь всяческих домашних живот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480440" y="4986360"/>
            <a:ext cx="16635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сихологическая уравновеш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88032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сихологическая уравновеш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Отличительные черты уравновешенного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мотрим, как на практике выглядит эмоциональная уравновешенность, ведь определившись с конкретными целями можно дотянутьс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 этого эфемерного состояния души и разума мудрейш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овешенность предполагает гармонию мыслей, эмоций и поступков человека, без каких либо внезапных или противоречивых проя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58040" y="4336920"/>
            <a:ext cx="8859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лияние стресса н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нергетика человека под воздействием стресса снижается, появляется быстрая утомляемость. Силы истощаются, и возникает такое ощущение, что ничего не хочется делать. Нет сил, чтоб успешно справляться с работ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моциональная сфера страдает, снижается настроение, появляются депрессивные мысли. Человек начинает концентрироваться на плохом, а это приводит к тому, что плохое только усиливается. И получается замкнутый круг, из которого нужно выходить с помощью освобождения от отрицательных эмо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изическое здоровье дает сбои. Обостряются хронические заболевания или появляются новые, такие как гипертония, диабет, болезни желудочно-кишечного тракта, болезни сердца и многие другие. Так же под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лиянием стресса у челове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повышается риск заболевание онколог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ловек, под влиянием стресса может поправиться. Это происходит потому, что еда начинает выполнять защитную функцию, происходит заедание стресса и естественно это отражается на вашей фигуре не самым лучшим образ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5084640"/>
            <a:ext cx="176544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избавиться от влиян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стресса?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нны с морской солью или эфирными мас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обенно хорошо принимать после работы. Помогают расслабиться и снять напря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улки на свежем воздух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рошо успокаивают и приводят мысли в порядок. Кроме того помогают укрепить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лакс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ироко известный и рекомендуемый способ для расслабления ума и тела. Для его осуществления достаточно включить приятную спокойную музыку, удобно расположиться и расслабиться. Чтоб было приятней можно еще и во время сеанса визуализировать приятные картинки. Например, берег моря, или прогулку в ле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дых на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рода обладает целительным действием. Она помогает снятию стресса и дарит гармо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372360" y="5450040"/>
            <a:ext cx="2592360" cy="1407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732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ТРЕВОЖ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ПА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80000" y="2133720"/>
            <a:ext cx="307332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сихология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Психология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 наука, изучающая закономерности возникновения, развития и функционирования психики и психической деятельности человека и групп люд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             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3162240" cy="33620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4000" y="213372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           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Трудно сконцентрировать в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Чувство перегруж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435640" y="2421000"/>
            <a:ext cx="3144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            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Все физические при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стр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26766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вечка ка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Невозмож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расслаб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6244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          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вечка ка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Постоянное чув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беспокойства и повышенная трево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421000"/>
            <a:ext cx="40068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65300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есс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25916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ответная реакция организма человека на перенапряжение, негативные эмоции или просто на монотонную суету. Во время стресса, организм человека вырабатывает гормон адреналин, который заставляет искать выход. Стресс в небольших количествах нужен всем, так как он заставляет думать, искать выход из проблемы, без стресса вообще жизнь была бы скучной. Но с другой стороны, если стрессов становится слишком много, организм слабеет, теряет силы и способность решать пробл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1640" y="1971720"/>
            <a:ext cx="8208360" cy="3815280"/>
            <a:chOff x="431640" y="1971720"/>
            <a:chExt cx="8208360" cy="3815280"/>
          </a:xfrm>
        </p:grpSpPr>
        <p:cxnSp>
          <p:nvCxnSpPr>
            <p:cNvPr id="115" name="_s31758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5590440" y="2441880"/>
              <a:ext cx="763560" cy="2873520"/>
            </a:xfrm>
            <a:prstGeom prst="bentConnector3">
              <a:avLst>
                <a:gd name="adj1" fmla="val 15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31757"/>
            <p:cNvCxnSpPr>
              <a:stCxn id="119" idx="0"/>
              <a:endCxn id="117" idx="2"/>
            </p:cNvCxnSpPr>
            <p:nvPr/>
          </p:nvCxnSpPr>
          <p:spPr>
            <a:xfrm flipV="1">
              <a:off x="4536000" y="3497040"/>
              <a:ext cx="3600" cy="76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31756"/>
            <p:cNvCxnSpPr>
              <a:stCxn id="121" idx="0"/>
              <a:endCxn id="117" idx="2"/>
            </p:cNvCxnSpPr>
            <p:nvPr/>
          </p:nvCxnSpPr>
          <p:spPr>
            <a:xfrm flipH="1" flipV="1" rot="5400000">
              <a:off x="2717640" y="2442240"/>
              <a:ext cx="763560" cy="2873520"/>
            </a:xfrm>
            <a:prstGeom prst="bentConnector3">
              <a:avLst>
                <a:gd name="adj1" fmla="val 15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31752"/>
            <p:cNvSpPr/>
            <p:nvPr/>
          </p:nvSpPr>
          <p:spPr>
            <a:xfrm>
              <a:off x="3304440" y="197172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у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31753"/>
            <p:cNvSpPr/>
            <p:nvPr/>
          </p:nvSpPr>
          <p:spPr>
            <a:xfrm>
              <a:off x="431640" y="42609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и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31754"/>
            <p:cNvSpPr/>
            <p:nvPr/>
          </p:nvSpPr>
          <p:spPr>
            <a:xfrm>
              <a:off x="3304440" y="42609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моциональны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31755"/>
            <p:cNvSpPr/>
            <p:nvPr/>
          </p:nvSpPr>
          <p:spPr>
            <a:xfrm>
              <a:off x="6177600" y="42609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сихологическ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Эустресс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нятие имеет два значения — «стресс, вызванный положительными эмоциями» и «несильный стресс, мобилизующий организм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Дистресс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егативный тип стресса, с которым организм не в силах справиться. Он подрывает здоровье человека и может привести к тяжелым заболеваниям. От стресса страдае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мунная систем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В стрессовом состоянии люди чаще оказываются жертвами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екции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поскольку продукция иммунных клеток заметно падает в период физического или психического стресс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Эмоциональный стресс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Эмоциональным стрессом называют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моциональные процессы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сопровождающие стресс, и ведущие к неблагоприятным изменениям в организме. Во время стресса, эмоциональная реакция развивается раньше других. При длительном или многократно повторяющемся стрессе эмоциональное возбуждение может застаиваться, а функционирование организма — разлаживать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Психологический стресс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ий стресс, как вид стресса, понимается разными авторами по-разному, но многие авторы определяют его как стресс, обусловленный социальными фактор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но запоминается нов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бывчивость, беспорядок, неорганизов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жно принять 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но сконцентрировать в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альновид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ссим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ачки мыс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янное чувство беспокойства и повышенная трево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ссонница или ночные кошм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2000" y="1052640"/>
            <a:ext cx="23763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09:45:23Z</dcterms:created>
  <dc:creator>Deafult User</dc:creator>
  <dc:description/>
  <dc:language>en-US</dc:language>
  <cp:lastModifiedBy>Deafult User</cp:lastModifiedBy>
  <dcterms:modified xsi:type="dcterms:W3CDTF">2015-04-09T12:22:33Z</dcterms:modified>
  <cp:revision>4</cp:revision>
  <dc:subject/>
  <dc:title>Психологическая уравновешенность. Стресс. Влияние стресса на человека. </dc:title>
</cp:coreProperties>
</file>